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1D7-28C5-49B7-AD22-1A2B735F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EAC-C34C-4D97-BEE7-8ED98EA6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CCF-D48D-4114-8570-8C5CF0D4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ADB-3EE6-4818-92EC-DAB0F1F0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9AE-DFB1-4EAC-BC67-A0333369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16B-3BA6-4D34-B0CB-C8B3DBB3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8AE-D185-42A3-88CC-7A0150FF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B6F-4808-4956-B94D-C3501AEF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05E-320E-4CBD-A324-1B78DB37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951-788B-4969-A047-4B824AD5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A69-0089-4C71-9296-74DB5BB2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972-A4B3-40BD-8705-78E23B6E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51A5-B26C-4EE6-B998-69D155044677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1ACA-F1C1-41F1-A31B-1C499D59E09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6526080"/>
            <a:ext cx="9144000" cy="331920"/>
          </a:xfrm>
          <a:prstGeom prst="flowChartProcess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图片1"/>
          <p:cNvPicPr/>
          <p:nvPr/>
        </p:nvPicPr>
        <p:blipFill>
          <a:blip r:embed="rId1"/>
          <a:stretch/>
        </p:blipFill>
        <p:spPr>
          <a:xfrm>
            <a:off x="644400" y="5392800"/>
            <a:ext cx="7694640" cy="9428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517680" y="2293920"/>
            <a:ext cx="7921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单元   青春时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课    青春的心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002040" y="3757680"/>
            <a:ext cx="30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课时  青春萌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99"/>
          <p:cNvSpPr/>
          <p:nvPr/>
        </p:nvSpPr>
        <p:spPr>
          <a:xfrm>
            <a:off x="-7920" y="106056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种感情既然是正常的，在青春期我们能否任其发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-7920" y="18367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故事正在继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"/>
          <p:cNvSpPr/>
          <p:nvPr/>
        </p:nvSpPr>
        <p:spPr>
          <a:xfrm>
            <a:off x="-7920" y="26128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龄人故事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8"/>
          <p:cNvSpPr/>
          <p:nvPr/>
        </p:nvSpPr>
        <p:spPr>
          <a:xfrm>
            <a:off x="274680" y="3676680"/>
            <a:ext cx="85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偶然的机会，晓敏和男孩儿认识了。有一天，晓敏收到了男孩儿的一封信，这是一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封情书！他们的感情可以进一步发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"/>
          <p:cNvSpPr/>
          <p:nvPr/>
        </p:nvSpPr>
        <p:spPr>
          <a:xfrm>
            <a:off x="189000" y="35258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"/>
          <p:cNvSpPr/>
          <p:nvPr/>
        </p:nvSpPr>
        <p:spPr>
          <a:xfrm>
            <a:off x="4680" y="4118040"/>
            <a:ext cx="78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通过以上分析，你想对晓敏说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"/>
          <p:cNvSpPr/>
          <p:nvPr/>
        </p:nvSpPr>
        <p:spPr>
          <a:xfrm>
            <a:off x="938160" y="4710240"/>
            <a:ext cx="812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以从生理、心理、时间、经历、经济上和对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习的影响等方面劝说晓敏谨慎对待青春期的情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智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68280" y="750960"/>
          <a:ext cx="8175600" cy="2706480"/>
        </p:xfrm>
        <a:graphic>
          <a:graphicData uri="http://schemas.openxmlformats.org/drawingml/2006/table">
            <a:tbl>
              <a:tblPr/>
              <a:tblGrid>
                <a:gridCol w="3986280"/>
                <a:gridCol w="4189320"/>
              </a:tblGrid>
              <a:tr h="3376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他们的感情可以进一步发展吗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上、心理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还不成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、精力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没有足够的时间和精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能独立，没有能力承担相应的责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学习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会影响到我们的学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老师、父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态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同学评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们的结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慎重对待、理智处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1"/>
          <p:cNvSpPr/>
          <p:nvPr/>
        </p:nvSpPr>
        <p:spPr>
          <a:xfrm>
            <a:off x="903240" y="920880"/>
            <a:ext cx="7527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不要去摘秋天的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朵花过早开放就会过早凋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恋是一支玫瑰花，当你送人浪漫时，不但会刺痛对方，也会刺痛自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216000" y="34732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与异性交往过程中，我们会因为对异性的欣赏、对美好的向往而愉悦，也容易把这种欣赏和向往理解为爱情。其实，这并不是真正的爱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99"/>
          <p:cNvSpPr/>
          <p:nvPr/>
        </p:nvSpPr>
        <p:spPr>
          <a:xfrm>
            <a:off x="216000" y="784080"/>
            <a:ext cx="86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花季中的男孩女孩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青春这个美丽的季节里，总有一种关怀让我们心存感激，总有一种诱惑让我们难以割舍，总有一种放弃让我们泪流满面。我们不可能避开这段复杂的心路历程。要知道，青春是一条渡我们走向成熟的桥，也是一条我们无法留住的岁月的河。青春的青苹果，谁采摘了，谁就会品尝生活的酸涩，而尝不到熟果的甜蜜。错过今天不成熟的情感，还会有明天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芳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如果错过了青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段学习的最佳时间，我们将抱憾终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于用千丝万缕的柔情编制爱巢，在那里窒息的不仅仅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还有本该朝气蓬勃的青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、女孩，请用理智鼓起你们青春的风帆，让生命之舟驶向辉煌的彼岸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99"/>
          <p:cNvSpPr/>
          <p:nvPr/>
        </p:nvSpPr>
        <p:spPr>
          <a:xfrm>
            <a:off x="4680" y="9493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-22320" y="14828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女孩应该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865080" y="2062080"/>
            <a:ext cx="787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她有两种选择：一是接受，结果</a:t>
            </a:r>
            <a:r>
              <a:rPr b="0" lang="en-US" sz="2800" spc="-1" strike="noStrike">
                <a:solidFill>
                  <a:srgbClr val="f8081f"/>
                </a:solidFill>
                <a:latin typeface="Times New Roman"/>
                <a:ea typeface="Times New Roman"/>
              </a:rPr>
              <a:t>——</a:t>
            </a: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给双方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习、生活带来严重影响；二是拒绝，但要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方式，因为一不小心就会伤害对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5"/>
          <p:cNvSpPr/>
          <p:nvPr/>
        </p:nvSpPr>
        <p:spPr>
          <a:xfrm>
            <a:off x="233280" y="3870360"/>
            <a:ext cx="86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所以当面对生活中可能出现的朦胧的情愫，我们应该慎重对待，理智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99"/>
          <p:cNvSpPr/>
          <p:nvPr/>
        </p:nvSpPr>
        <p:spPr>
          <a:xfrm>
            <a:off x="-7920" y="11415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龄人故事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203040" y="1868400"/>
            <a:ext cx="86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敏思量再三，把这件事告诉了家长。结果，男生恼羞成怒，扬言要报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"/>
          <p:cNvSpPr/>
          <p:nvPr/>
        </p:nvSpPr>
        <p:spPr>
          <a:xfrm>
            <a:off x="201600" y="30369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"/>
          <p:cNvSpPr/>
          <p:nvPr/>
        </p:nvSpPr>
        <p:spPr>
          <a:xfrm>
            <a:off x="203040" y="376884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想对男孩说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"/>
          <p:cNvSpPr/>
          <p:nvPr/>
        </p:nvSpPr>
        <p:spPr>
          <a:xfrm>
            <a:off x="1379520" y="431316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楷体_GB2312"/>
                <a:ea typeface="楷体_GB2312"/>
              </a:rPr>
              <a:t>青春期的情感不成熟，情绪也不稳定，你应该采取正确方式、理智对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99"/>
          <p:cNvSpPr/>
          <p:nvPr/>
        </p:nvSpPr>
        <p:spPr>
          <a:xfrm>
            <a:off x="189000" y="15238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何正确理解爱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149400" y="2327400"/>
            <a:ext cx="884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爱情需要具有爱他人的能力，这种能力包含自我的成熟、道德的完善，也包含对家庭的责任。爱情需要彼此深入了解，需要一定的物质基础和共同的生活理想，是强烈、稳定、专一的感情。真正的爱情包含尊重、责任、珍惜、平等和自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073742899" descr=""/>
          <p:cNvPicPr/>
          <p:nvPr/>
        </p:nvPicPr>
        <p:blipFill>
          <a:blip r:embed="rId1"/>
          <a:stretch/>
        </p:blipFill>
        <p:spPr>
          <a:xfrm>
            <a:off x="870120" y="1603440"/>
            <a:ext cx="7405560" cy="335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:\Users\ADMINI~1\AppData\Local\Temp\ksohtml\wps5F02.tmp.jpg"/>
          <p:cNvPicPr/>
          <p:nvPr/>
        </p:nvPicPr>
        <p:blipFill>
          <a:blip r:embed="rId1"/>
          <a:stretch/>
        </p:blipFill>
        <p:spPr>
          <a:xfrm>
            <a:off x="4572000" y="-15228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00"/>
          <p:cNvSpPr/>
          <p:nvPr/>
        </p:nvSpPr>
        <p:spPr>
          <a:xfrm>
            <a:off x="147600" y="1359000"/>
            <a:ext cx="87771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中学时代，男女同学应“交往有度，纯化友谊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要做到                           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交往中要落落大方，掌握分寸  ②提倡群体交往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集体活动  ③同学之间要互相帮助，互相学习  ④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进行学习之外的交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①②③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②③④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①③④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①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6"/>
          <p:cNvSpPr/>
          <p:nvPr/>
        </p:nvSpPr>
        <p:spPr>
          <a:xfrm>
            <a:off x="7800840" y="1933560"/>
            <a:ext cx="6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100"/>
          <p:cNvSpPr/>
          <p:nvPr/>
        </p:nvSpPr>
        <p:spPr>
          <a:xfrm>
            <a:off x="219240" y="1336680"/>
            <a:ext cx="8767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红进入初中后，母亲多次告诫小红不要和男同学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往，小红母亲的担心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道理，因为男女同学之间的交往必然导致早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道理，因为男女同学之间的交往影响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道理，因为男女同学之间的交往一定能使双方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进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道理，因为男女同学之间的正常交往会促进身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健康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8137440" y="1933560"/>
            <a:ext cx="6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4103"/>
          <p:cNvSpPr/>
          <p:nvPr/>
        </p:nvSpPr>
        <p:spPr>
          <a:xfrm>
            <a:off x="71280" y="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03040" y="936720"/>
            <a:ext cx="86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通过上节课的学习我们知道，男生与女生是有差异的，各自有着自己的优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"/>
          <p:cNvSpPr/>
          <p:nvPr/>
        </p:nvSpPr>
        <p:spPr>
          <a:xfrm>
            <a:off x="201600" y="2454120"/>
            <a:ext cx="86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一写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现在大家在纸上写出你心目中理想异性的特点，看看这些特点主要集中在哪些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"/>
          <p:cNvSpPr/>
          <p:nvPr/>
        </p:nvSpPr>
        <p:spPr>
          <a:xfrm>
            <a:off x="209520" y="4149720"/>
            <a:ext cx="86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年幼时，男女同学之间的交往非常自然。随着年龄的增长，进入了青春期，在男女生交往中会出现一些敏感问题。这也是我们这节课所要探讨的问题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—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青春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4"/>
          <p:cNvSpPr/>
          <p:nvPr/>
        </p:nvSpPr>
        <p:spPr>
          <a:xfrm>
            <a:off x="4000680" y="1000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1" name="矩形 2"/>
          <p:cNvSpPr/>
          <p:nvPr/>
        </p:nvSpPr>
        <p:spPr>
          <a:xfrm>
            <a:off x="1973160" y="1736640"/>
            <a:ext cx="5761080" cy="3384720"/>
          </a:xfrm>
          <a:prstGeom prst="rect">
            <a:avLst/>
          </a:prstGeom>
          <a:solidFill>
            <a:srgbClr val="fbe5d6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2562120" y="2066760"/>
            <a:ext cx="494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了解青春期的我们对异性有好感是正常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确看待异性交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会正确处理与异性之间的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6152"/>
          <p:cNvSpPr/>
          <p:nvPr/>
        </p:nvSpPr>
        <p:spPr>
          <a:xfrm>
            <a:off x="325440" y="6937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6147"/>
          <p:cNvGrpSpPr/>
          <p:nvPr/>
        </p:nvGrpSpPr>
        <p:grpSpPr>
          <a:xfrm>
            <a:off x="325440" y="406440"/>
            <a:ext cx="2232000" cy="808200"/>
            <a:chOff x="325440" y="406440"/>
            <a:chExt cx="2232000" cy="808200"/>
          </a:xfrm>
        </p:grpSpPr>
        <p:sp>
          <p:nvSpPr>
            <p:cNvPr id="55" name="矩形 7"/>
            <p:cNvSpPr/>
            <p:nvPr/>
          </p:nvSpPr>
          <p:spPr>
            <a:xfrm>
              <a:off x="885240" y="406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16"/>
            <p:cNvSpPr/>
            <p:nvPr/>
          </p:nvSpPr>
          <p:spPr>
            <a:xfrm>
              <a:off x="325440" y="694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7"/>
            <p:cNvSpPr/>
            <p:nvPr/>
          </p:nvSpPr>
          <p:spPr>
            <a:xfrm>
              <a:off x="687240" y="644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6152"/>
            <p:cNvSpPr/>
            <p:nvPr/>
          </p:nvSpPr>
          <p:spPr>
            <a:xfrm>
              <a:off x="325440" y="694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文本框 6151"/>
          <p:cNvSpPr/>
          <p:nvPr/>
        </p:nvSpPr>
        <p:spPr>
          <a:xfrm>
            <a:off x="2314800" y="681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一：异性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201600" y="136692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一：心理咨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"/>
          <p:cNvSpPr/>
          <p:nvPr/>
        </p:nvSpPr>
        <p:spPr>
          <a:xfrm>
            <a:off x="216000" y="2021040"/>
            <a:ext cx="86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景一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梅苦恼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前我看到男生就烦，从这学期开始，我忽然变得愿意和男生说话了，在各种活动中有男生在场才觉得有劲儿，总想显示自己，引起男生注意。这是怎么了，我是坏女孩吗？我很害怕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景二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，大海放学回家就把自己关在房间里，晚饭也不吃。妈妈和他沟通半天，大海才道出原委：因为自己脸上的一个小疤痕，前桌的女生笑话他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刀疤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而这场景恰巧被他所欣赏的女生撞见，大海觉得自己很没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2"/>
          <p:cNvSpPr/>
          <p:nvPr/>
        </p:nvSpPr>
        <p:spPr>
          <a:xfrm>
            <a:off x="203040" y="71424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议一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203040" y="1366920"/>
            <a:ext cx="867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小梅和大海为什么苦恼？他们的苦恼有什么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1122480" y="2397240"/>
            <a:ext cx="773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情景材料中找他们的苦恼。共同特点是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异性面前有自我表现的欲望，更加在意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"/>
          <p:cNvSpPr/>
          <p:nvPr/>
        </p:nvSpPr>
        <p:spPr>
          <a:xfrm>
            <a:off x="203040" y="4016520"/>
            <a:ext cx="86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怎样帮助小梅和大海摆脱苦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"/>
          <p:cNvSpPr/>
          <p:nvPr/>
        </p:nvSpPr>
        <p:spPr>
          <a:xfrm>
            <a:off x="1122480" y="4621320"/>
            <a:ext cx="764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确看待自己在青春情感中的萌动；正确看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己的优缺点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99"/>
          <p:cNvSpPr/>
          <p:nvPr/>
        </p:nvSpPr>
        <p:spPr>
          <a:xfrm>
            <a:off x="203040" y="1301760"/>
            <a:ext cx="86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成长过程中，你遇到过这样的苦恼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189000" y="2720880"/>
            <a:ext cx="86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小梅、大海都想在异性面前表现自己最好的一面。步入青春期，我们会有一种特殊的情感体验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就是青春期的心理萌动。就像小梅、大海在异性面前，有自我表现的欲望，更加在意自己的形象，渴望得到异性的肯定和接受。这是属于正常的心理现象，是青春期的心理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2"/>
          <p:cNvSpPr/>
          <p:nvPr/>
        </p:nvSpPr>
        <p:spPr>
          <a:xfrm>
            <a:off x="203040" y="66996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二：出谋划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417600" y="1324080"/>
            <a:ext cx="8119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景：假如某校有这样的校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生女生不得成对儿出现在校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生女生交往距离不能小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生女生不得同桌吃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生女生不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5"/>
          <p:cNvSpPr/>
          <p:nvPr/>
        </p:nvSpPr>
        <p:spPr>
          <a:xfrm>
            <a:off x="189000" y="41194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议一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189000" y="4648320"/>
            <a:ext cx="87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赞同这样的校规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7"/>
          <p:cNvSpPr/>
          <p:nvPr/>
        </p:nvSpPr>
        <p:spPr>
          <a:xfrm>
            <a:off x="1336680" y="5195880"/>
            <a:ext cx="66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赞同，理由从男女生各自的优势考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99"/>
          <p:cNvSpPr/>
          <p:nvPr/>
        </p:nvSpPr>
        <p:spPr>
          <a:xfrm>
            <a:off x="58680" y="473040"/>
            <a:ext cx="863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学校制定这样的校规，表明校长和老师担心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么？他们的担心有哪些合理之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974880" y="1550880"/>
            <a:ext cx="754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在青春期，学生容易出现早恋情况，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习等方面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"/>
          <p:cNvSpPr/>
          <p:nvPr/>
        </p:nvSpPr>
        <p:spPr>
          <a:xfrm>
            <a:off x="-22320" y="26971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讨论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怎样与异性相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8"/>
          <p:cNvSpPr/>
          <p:nvPr/>
        </p:nvSpPr>
        <p:spPr>
          <a:xfrm>
            <a:off x="1081080" y="3305160"/>
            <a:ext cx="67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分寸，注意时间、场合、频率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9"/>
          <p:cNvSpPr/>
          <p:nvPr/>
        </p:nvSpPr>
        <p:spPr>
          <a:xfrm>
            <a:off x="4680" y="4025880"/>
            <a:ext cx="88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与异性相处，有助于我们了解异性的思维方式、情感特征。与异性成为好朋友，不仅仅是性别的吸引，还能从对方身上看到某些优秀品质。异性之间的友谊，可能让人敏感、遭到质疑，但只要我们内心坦荡，言谈得当，举止得体，这份友谊会成为我们青春美好的见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6152"/>
          <p:cNvSpPr/>
          <p:nvPr/>
        </p:nvSpPr>
        <p:spPr>
          <a:xfrm>
            <a:off x="558720" y="6332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6151"/>
          <p:cNvSpPr/>
          <p:nvPr/>
        </p:nvSpPr>
        <p:spPr>
          <a:xfrm>
            <a:off x="1765800" y="620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二：异性情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152"/>
          <p:cNvSpPr/>
          <p:nvPr/>
        </p:nvSpPr>
        <p:spPr>
          <a:xfrm>
            <a:off x="685800" y="7603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6147"/>
          <p:cNvGrpSpPr/>
          <p:nvPr/>
        </p:nvGrpSpPr>
        <p:grpSpPr>
          <a:xfrm>
            <a:off x="615960" y="406440"/>
            <a:ext cx="2232000" cy="808200"/>
            <a:chOff x="615960" y="406440"/>
            <a:chExt cx="2232000" cy="808200"/>
          </a:xfrm>
        </p:grpSpPr>
        <p:sp>
          <p:nvSpPr>
            <p:cNvPr id="84" name="矩形 7"/>
            <p:cNvSpPr/>
            <p:nvPr/>
          </p:nvSpPr>
          <p:spPr>
            <a:xfrm>
              <a:off x="1175760" y="406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16"/>
            <p:cNvSpPr/>
            <p:nvPr/>
          </p:nvSpPr>
          <p:spPr>
            <a:xfrm>
              <a:off x="615960" y="694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"/>
            <p:cNvSpPr/>
            <p:nvPr/>
          </p:nvSpPr>
          <p:spPr>
            <a:xfrm>
              <a:off x="977760" y="644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6152"/>
            <p:cNvSpPr/>
            <p:nvPr/>
          </p:nvSpPr>
          <p:spPr>
            <a:xfrm>
              <a:off x="615960" y="694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99"/>
          <p:cNvSpPr/>
          <p:nvPr/>
        </p:nvSpPr>
        <p:spPr>
          <a:xfrm>
            <a:off x="203040" y="13795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龄人故事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"/>
          <p:cNvSpPr/>
          <p:nvPr/>
        </p:nvSpPr>
        <p:spPr>
          <a:xfrm>
            <a:off x="203040" y="1920960"/>
            <a:ext cx="86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敏悄悄地喜欢上了邻班的一个男生，他的一切都吸引着晓敏。一想起他，既甜蜜又自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敏问自己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这是怎么啦？这正常吗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"/>
          <p:cNvSpPr/>
          <p:nvPr/>
        </p:nvSpPr>
        <p:spPr>
          <a:xfrm>
            <a:off x="58680" y="33559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5"/>
          <p:cNvSpPr/>
          <p:nvPr/>
        </p:nvSpPr>
        <p:spPr>
          <a:xfrm>
            <a:off x="33480" y="3903840"/>
            <a:ext cx="84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你认为这种现象正常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501480" y="4502160"/>
            <a:ext cx="849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其实，这样的心理可能你也有过。相遇青春，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们心中开始萌发一些对异性朦胧的情感。这是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春成长中的正常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1T01:30:09Z</dcterms:created>
  <dc:creator/>
  <dc:description/>
  <dc:language>en-US</dc:language>
  <cp:lastModifiedBy>Administrator</cp:lastModifiedBy>
  <dcterms:modified xsi:type="dcterms:W3CDTF">2019-01-11T01:30:0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